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CFA2-5DAC-49FA-BBBF-834E25E73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0CB8-86C4-4890-982E-3828AC942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66CD-B07D-430A-B553-100001723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ECA4-6AF4-4FEF-8877-0228DD057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C171-8C29-4474-AF2A-C7D3E436E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0567-3B6A-461E-8556-3973E81F1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08D1-E4A9-49BC-9957-5D84B4768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7A9E-9242-411C-84FB-49D8E9082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E4AA-0055-4496-B0BA-FC5863E35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1BF8-9675-49E5-9292-E7AAA316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1F85-44B2-4800-BC20-32C2C6CB7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55E8-C6DC-4D1F-A7AC-A027D7BD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4C4A3-1E0A-4076-8665-8A2F660B259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276120" y="2637000"/>
            <a:ext cx="86360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نجاة من كيد إخوت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نجاة من كيد امرأه العزيز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نجاة من السج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3"/>
          <a:stretch/>
        </p:blipFill>
        <p:spPr>
          <a:xfrm>
            <a:off x="276120" y="981000"/>
            <a:ext cx="85298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3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62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3"/>
          <a:stretch/>
        </p:blipFill>
        <p:spPr>
          <a:xfrm>
            <a:off x="250920" y="1484280"/>
            <a:ext cx="866448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7" name="عنوان 1"/>
          <p:cNvSpPr/>
          <p:nvPr/>
        </p:nvSpPr>
        <p:spPr>
          <a:xfrm>
            <a:off x="324000" y="5589720"/>
            <a:ext cx="856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لعبرة والعظة وتصديق ما جاء به محمد </a:t>
            </a:r>
            <a:r>
              <a:rPr b="1" lang="ar-SA" sz="25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8" descr=""/>
          <p:cNvPicPr/>
          <p:nvPr/>
        </p:nvPicPr>
        <p:blipFill>
          <a:blip r:embed="rId3"/>
          <a:stretch/>
        </p:blipFill>
        <p:spPr>
          <a:xfrm>
            <a:off x="1757520" y="981000"/>
            <a:ext cx="7135560" cy="622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"/>
          <p:cNvPicPr/>
          <p:nvPr/>
        </p:nvPicPr>
        <p:blipFill>
          <a:blip r:embed="rId4"/>
          <a:stretch/>
        </p:blipFill>
        <p:spPr>
          <a:xfrm>
            <a:off x="2217600" y="2744640"/>
            <a:ext cx="6678720" cy="711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"/>
          <p:cNvPicPr/>
          <p:nvPr/>
        </p:nvPicPr>
        <p:blipFill>
          <a:blip r:embed="rId5"/>
          <a:stretch/>
        </p:blipFill>
        <p:spPr>
          <a:xfrm>
            <a:off x="4054320" y="5013360"/>
            <a:ext cx="4838760" cy="673200"/>
          </a:xfrm>
          <a:prstGeom prst="rect">
            <a:avLst/>
          </a:prstGeom>
          <a:ln w="0">
            <a:noFill/>
          </a:ln>
        </p:spPr>
      </p:pic>
      <p:sp>
        <p:nvSpPr>
          <p:cNvPr id="91" name="عنوان 1"/>
          <p:cNvSpPr/>
          <p:nvPr/>
        </p:nvSpPr>
        <p:spPr>
          <a:xfrm>
            <a:off x="324000" y="342900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بتلاء واختبا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عنوان 1"/>
          <p:cNvSpPr/>
          <p:nvPr/>
        </p:nvSpPr>
        <p:spPr>
          <a:xfrm>
            <a:off x="324000" y="1628640"/>
            <a:ext cx="856908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إلا بعد ما بذلوا ما في وسعهم من الدعو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166"/>
          <a:stretch/>
        </p:blipFill>
        <p:spPr>
          <a:xfrm>
            <a:off x="195120" y="2637000"/>
            <a:ext cx="8753760" cy="86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8496000" cy="3241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9360"/>
            <a:ext cx="9129600" cy="1248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666880" y="5013360"/>
            <a:ext cx="381024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76120" y="1989000"/>
            <a:ext cx="863604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تكلم عن حال الرسل مع أقوام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1622520" y="1052640"/>
            <a:ext cx="727056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7138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9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8640720" cy="4608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"/>
          <p:cNvPicPr/>
          <p:nvPr/>
        </p:nvPicPr>
        <p:blipFill>
          <a:blip r:embed="rId2"/>
          <a:stretch/>
        </p:blipFill>
        <p:spPr>
          <a:xfrm>
            <a:off x="0" y="907920"/>
            <a:ext cx="9144000" cy="865440"/>
          </a:xfrm>
          <a:prstGeom prst="rect">
            <a:avLst/>
          </a:prstGeom>
          <a:ln w="0">
            <a:noFill/>
          </a:ln>
        </p:spPr>
      </p:pic>
      <p:sp>
        <p:nvSpPr>
          <p:cNvPr id="56" name="عنوان 1"/>
          <p:cNvSpPr/>
          <p:nvPr/>
        </p:nvSpPr>
        <p:spPr>
          <a:xfrm>
            <a:off x="239760" y="51516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ذابن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324000" y="1119240"/>
            <a:ext cx="41781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هج دعوة النبي </a:t>
            </a:r>
            <a:r>
              <a:rPr b="1" lang="ar-SA" sz="22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594360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ب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3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نصر يأتي مع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كرب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ع العسر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يسرا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صر الله لأوليائه مهما تأخر النصر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تيق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يأس من إيمان الناس وهدايتهم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جو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سنة الله تعالى في تأخير نزول النصر على رسله وأوليائ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زيادة في الابتلاء والتمحي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sp>
        <p:nvSpPr>
          <p:cNvPr id="67" name="عنوان 1"/>
          <p:cNvSpPr/>
          <p:nvPr/>
        </p:nvSpPr>
        <p:spPr>
          <a:xfrm>
            <a:off x="227160" y="3795840"/>
            <a:ext cx="866592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فضل القرآن الكريم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 فيه هداية ورحمة للمؤمن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"/>
          <p:cNvPicPr/>
          <p:nvPr/>
        </p:nvPicPr>
        <p:blipFill>
          <a:blip r:embed="rId3"/>
          <a:stretch/>
        </p:blipFill>
        <p:spPr>
          <a:xfrm>
            <a:off x="1763640" y="981000"/>
            <a:ext cx="7113600" cy="2692440"/>
          </a:xfrm>
          <a:prstGeom prst="rect">
            <a:avLst/>
          </a:prstGeom>
          <a:ln w="0">
            <a:noFill/>
          </a:ln>
        </p:spPr>
      </p:pic>
      <p:sp>
        <p:nvSpPr>
          <p:cNvPr id="71" name="عنوان 1"/>
          <p:cNvSpPr/>
          <p:nvPr/>
        </p:nvSpPr>
        <p:spPr>
          <a:xfrm>
            <a:off x="4427640" y="1628640"/>
            <a:ext cx="40528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كتاب كله صد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4427640" y="2349360"/>
            <a:ext cx="40528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فصيل لكل شي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4427640" y="2997360"/>
            <a:ext cx="40528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هد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324000" y="1628640"/>
            <a:ext cx="33112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رحم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324000" y="2349360"/>
            <a:ext cx="33112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عب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عنوان 1"/>
          <p:cNvSpPr/>
          <p:nvPr/>
        </p:nvSpPr>
        <p:spPr>
          <a:xfrm>
            <a:off x="395280" y="2997360"/>
            <a:ext cx="331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يصدق كل ما جاء به محمد </a:t>
            </a:r>
            <a:r>
              <a:rPr b="1" lang="ar-SA" sz="25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9T10:59:27Z</dcterms:modified>
  <cp:revision>2036</cp:revision>
  <dc:subject/>
  <dc:title>عرض تقديمي في PowerPoint</dc:title>
</cp:coreProperties>
</file>